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79D-03DA-435E-9255-59B1409A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EDD-AC9A-4B9D-8EDC-5234EFA2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C0D-8E25-41BA-931C-137139A7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CC5-6587-4FB0-9CA4-03A57E27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6CB-8FD5-470C-AB9A-0B185FBA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858-4219-4494-958E-DFEC45A5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905-D1B0-4094-B604-F8444A89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733-9D16-49AB-BF13-C4036A29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EC7-1896-4BD7-BFC7-A2D2A76D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84A-C00C-4962-9337-89B2C37E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786-6A52-4992-A503-B2D005CA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AF7-A97C-4AB5-BB55-07C63ADE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8EB4-8E70-45F7-8190-F5F17FAEE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eautiful%20views%20from%20Neuschwanstein%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German Cultural Identit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The Castles of Mad Ludwig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520" y="228564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nthea Rok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http://theblunckfamily.blogspot.com/2012/07/we-spent-saturday-going-to-visit-thi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http://www.germanprofessor.org/cultur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rmanculture.com.ua/library/weekly/german_castl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445520" cy="4986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1627200" y="62690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umblog.humboldt-institut.org/archives/32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752480" y="399960"/>
            <a:ext cx="4419720" cy="368280"/>
          </a:xfrm>
          <a:prstGeom prst="rect">
            <a:avLst/>
          </a:prstGeom>
          <a:solidFill>
            <a:srgbClr val="d1d1f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Gothic Std Black"/>
              </a:rPr>
              <a:t>German Students Visit Neuschwa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German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King Ludwig II’s castles are located in Bav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y are very popular with tourists from around Germany and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Parents and grandparents bring their children to share the rich history of their predeces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Many German families visit these castles to better understand their ances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families take pride in what their forefathers have accomplished through their architecture and reign of young Ger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German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4400640" y="609300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theblunckfamily.blogspot.com/2012/07/we-spent-saturday-going-to-visit-this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424320" cy="4565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977760" y="25909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German family outside of Neuschwans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German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79400" y="1371600"/>
            <a:ext cx="769644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Many universities, academies, and institutions visit Neuschwans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Children young and old take part in visiting the cast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ours are given to express background and detail about the castles and the people who lived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Festivals are held every year outside of the castle to appreciate German heri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It is encouraged that people of all ages visit the castles and other historical landmarks to see how far they have come as a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4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German Tour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5880" y="5867280"/>
            <a:ext cx="6095880" cy="3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Day tour given to visitors at Neuschwanstein.</a:t>
            </a:r>
            <a:r>
              <a:rPr b="0" lang="en-US" sz="1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565600" cy="370548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380880" y="5229360"/>
            <a:ext cx="7315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mikesbiketours.com/munich/images/phocagallery/Day_Trip/thumbs/phoca_thumb_l_peopleatvista-web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How does this affect German cultural ident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amazing castles shows just some of the history and land traditions of Ger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Germans take pride in the fantastic work done by their ances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se are some of the most famous castle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ravelling and learning about their culture id quite com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Currently, they are carefully renovating and fixing Neuschwanstein which shows their pride in history and love of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German cultural identity as seen with Neuschwanst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5638320"/>
            <a:ext cx="70102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Traditional German dancing outside Newschwa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[Germany+with+Lizzie+4-2009+357.jpg]"/>
          <p:cNvPicPr/>
          <p:nvPr/>
        </p:nvPicPr>
        <p:blipFill>
          <a:blip r:embed="rId1"/>
          <a:stretch/>
        </p:blipFill>
        <p:spPr>
          <a:xfrm>
            <a:off x="1828800" y="16002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838080" y="1600200"/>
            <a:ext cx="7620120" cy="40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Who built the some of the most famous castles in the world; such as Neuschwanste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King 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Mad Ludwig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Queen Elizabeth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2. What is one reason this affects German cultural ident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They take pride and love the history of their anc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914400" y="4876920"/>
            <a:ext cx="45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b. They get free f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c.  They can have car 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3520" y="1447560"/>
            <a:ext cx="22860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431080" y="-4488120"/>
            <a:ext cx="4281840" cy="897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74747"/>
                </a:solidFill>
                <a:latin typeface="Arial"/>
              </a:rPr>
              <a:t>iPhone Screensho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iPhone Screenshot 2"/>
          <p:cNvPicPr/>
          <p:nvPr/>
        </p:nvPicPr>
        <p:blipFill>
          <a:blip r:embed="rId1"/>
          <a:stretch/>
        </p:blipFill>
        <p:spPr>
          <a:xfrm>
            <a:off x="5257800" y="1676520"/>
            <a:ext cx="318132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295280" y="3505320"/>
            <a:ext cx="350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ere’s an app for that 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p of the castles located in Germany can be purchased at the Apple sto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2:13:11Z</dcterms:created>
  <dc:creator>SCSadmin</dc:creator>
  <dc:description/>
  <dc:language>en-US</dc:language>
  <cp:lastModifiedBy>SCSadmin</cp:lastModifiedBy>
  <dcterms:modified xsi:type="dcterms:W3CDTF">2012-12-07T13:07:02Z</dcterms:modified>
  <cp:revision>17</cp:revision>
  <dc:subject/>
  <dc:title>The Castles of Mad Ludwig II help define German identity</dc:title>
</cp:coreProperties>
</file>